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A7D-AA89-461B-A9B1-0ED83B10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85A-DED9-43AC-8831-A5FA56ED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5EF9A-6472-421E-844E-F29B1AF598B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556023-6A36-4C10-AE39-F0E17982238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AD241-C451-40D9-92F8-725059DBF56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55387C-B766-4AF3-8D5C-F89E5C7A234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47CC4F-65D5-400D-A77B-C893AD0E8F3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1EC172-BD77-45B2-9CB3-2973D868AA7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4E9E14-7CE3-40ED-8179-823ABD5A445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DD795D-7EB3-4A28-96E4-D6F33E75819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704D6-7307-4F3E-99E1-4ABD76F7914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B3C-9206-4ADB-B6CF-07047084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B46-7E47-47F7-A9C6-3683F1CB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747-55C4-4B9A-A893-9DF8BAA4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295D4-229A-4504-8762-A4924283DD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C759D-C75B-4645-88AB-659736662B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AC5B4-F6CF-4B76-8B0B-FC74DD2A62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62D98-D002-46C6-9CF6-0044740E71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16BA2-44C6-4604-9D48-312D34FF1F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CDE-1598-46BB-B7F7-389DD96E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0E357-CF12-45D5-ABE3-E4BEDAD02D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044EC-E5C6-49A5-A3A6-5D357B8105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2629B-046C-4364-A147-F6C7AC0794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74133-071F-49CE-BDB3-7280080B1D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7DD87-D22F-4C56-8499-952E355769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1ACEF-144F-4852-B7A7-ACF35462BA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80F23-430C-4D4C-8308-15E1C05D1C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BB129-0152-4032-939C-0946AF6272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E311F-7F00-4F18-91C7-0E2F1EEE7E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257C4-1E50-4EDD-A4D0-B2EC6B0C6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A4F-9DC8-46A1-ABAA-94526287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90D15-925A-406E-B5C0-48A524F94A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B5752-D9F0-487B-9C6D-BBBA746B52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41263-981E-42B0-898B-ED71C7B575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EDA6A-1EE2-458B-97F3-07467FB8C0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AA64F-080E-402C-B911-38B3984022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FCB6D-F8A2-4B0E-8BA5-9BE3529A8A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7A43D-C627-481B-8243-C74A7933BF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14567-F5AC-44FE-A145-59A91CFA52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37061-33C4-429B-A338-AEFD3990310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B85A-AA93-4D83-B53E-D86000382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366-E5F0-4F7E-88A4-A5C7372D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7FE6-2C8A-41CB-9531-7FCCBE50C9D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BA0E-3D6C-4AA9-AD0A-5E7F0ABBCB5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ACAA-4EDC-4F58-8C01-67D9AD7828E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3CB8-613D-4F6B-9E14-87B150B7064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1922-7C49-4D91-BC21-DEC3E26E989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9764-7FEC-4F24-AE50-67904125060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ADEE-A768-4D4E-B29E-1352A34A065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3701-9F89-4A19-BC58-33A13DBF8A9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AEFB-8DCF-4D36-87AF-428D705DC0B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36ED-D256-459B-ABEF-44F7A007F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A72-C830-483E-A136-A0F68D67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5315-2F08-4370-9DF6-901EB13CAC4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3BA6F7-830A-4087-B868-D32A4DFC1C6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5D5607-692C-432C-9D8B-17E846EA72D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6FF078-41C1-4009-BB95-6FF0C907BF6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725A76-CA64-4734-9860-EA1A83D0EF9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1C0474-0419-4B2B-91AA-CAED0D4B60F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779091-43A4-4277-A12F-DF87E8536D8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77EA3F-8EE7-4193-85CD-130A71312D5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F351F8-45A6-49A1-9477-EE46CCDE7B3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A89F42-4E4A-445F-81B3-B3A9F9357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1B9-4617-4D90-A551-9325D068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94F60A-D228-4594-8B90-245F7AD3845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0CE6DB-3001-4C9B-AE7A-B8BA55A6E4C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B4926B-7FBF-4BD3-906E-45378325B5A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C5E32-2148-4868-A9D9-1DAF3A50310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840BF-A12A-4E9E-B4C7-F23437EFF85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A9A6C-B059-4ED2-AE74-A717F7796FA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30D0A-2F80-41A2-8C3D-8E94AC4DC77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F09A9-79A1-42C9-800F-E908A41B31E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7C755-DB62-4861-A15C-49025B88216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E3BF7-4AF8-4557-9E55-49384D7F9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75D-28AB-46B6-8F55-A9361DCE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08F44-39C2-466C-A55C-A14748950F4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42C4F-A02A-48A1-98E1-4E7EDA707D2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E1019-705A-4AEE-9D7F-9C67B9EC778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CC613-CA8D-4EAE-BD1B-C257F8F7520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D8FC0-C0D2-4069-B79E-F07A0120B7B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37BEF-DA82-4009-98F8-FF8307422AD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AA29-694E-47F5-9843-3EE6D00A111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9299F-56C4-4356-88A2-4A55608112A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1725-5531-4F3F-A5C9-6A6B874A165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0E354-D687-4D8F-AFAC-65F5E272D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BE4-63B2-4E97-928A-033D03B1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A7BD8-0310-4E41-B450-0219969A6BE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02468-A2DD-402C-ADF2-63D4E0A50D9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65E38-C85B-4CBF-BF73-E2CD8F9D08E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7DE2-DAF7-4D5F-BB52-0808E1922FE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9EF8-9F86-45BA-906A-EC2FAFB2A30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9F92B-8E6D-4A80-93FD-54561F75FF9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3FF6-30C3-4E2E-B4BD-89D2901A464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7CEA7-521B-426D-B79A-8F4B864C1DF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892DA6-D65A-4823-8979-62BD9AE886F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4FADDA-ECF9-45C2-927F-C914B3919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651ABA5-9EB7-490D-A037-0790148B404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371838E-7710-4479-A513-BFC704D5D3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577998-3F90-4E1E-BEB4-23F748887AE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9349FF-010A-4437-8678-D5700535AF2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6D4BB37-A8A3-45DE-BF31-16324CE4694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B51F83-7781-4090-816C-C291DA21C1B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3B070FB-2579-422A-986B-9EF7C1F7376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586CA9-BB8B-4AC8-B5F9-4545C729BD6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AB0D44A-2451-46EF-83B9-3D51CB22928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programma 2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s mērķ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98480" y="1752120"/>
            <a:ext cx="6988320" cy="3699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programmas mērķis ir sekmēt starptautisko sadarbību zinātnē un inovācij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ot konkurētspējīgu projektu pieteikumu izstrād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paši atbalstot sadarbību starp Baltijas valstu zinātnieki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ļēji kompensējot projektu pieteikumu izstrādes izdev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9BE619-AB34-4EBF-AE4E-B3CEB09BC01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003040" y="1752120"/>
            <a:ext cx="668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rogramm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ievieš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Valsts izglītības attīstības aģentūras Zinātnes, pētniecības un inovācijas politikas atbalsta departamenta Pētniecības starptautisko programmu nodaļ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Lēmumu</a:t>
            </a:r>
            <a:r>
              <a:rPr b="0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ar finansiāla atbalsta piešķiršan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ieņem</a:t>
            </a:r>
            <a:r>
              <a:rPr b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misija, kuras sastāvu veido Izglītības un zinātnes ministrijas, Valsts izglītības attīstības aģentūras, Latvijas Zinātnes padomes un Latvijas investīciju un attīstības aģentūras pārstāv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820A627-E21F-4ACA-8597-8AE9E8350A7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as var saņemt atbal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3520" y="1752120"/>
            <a:ext cx="689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Zinātnisko institūciju reģistrā reģistrēta zinātniskā institūcija vai mazais un vidējais uzņēmu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projekta izstrādi, kas iesniegts 2014., 2015. vai 2016.gada projektu konkursā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m ekspertu dotā novērtējuma skaitliskā vērtība ir sasniegusi nepieciešamo sliekšņa vērtīb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F6D102B-79C9-4584-B70B-9CB9ABD243C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Atbalstu var saņemt p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11200" y="1752480"/>
            <a:ext cx="7275600" cy="3611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Apvārsnis 2020 inovācij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ATOM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OSTARS 2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ONUS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CSEL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IMI 2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Clean Sky 2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io-Based Industrie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RA-NET aktivitātes ietvaros iesniegtu projekt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92D807-FC1F-43BA-ABE9-06BCC2D52A4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Atbalstu nevar saņ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046240" y="1752120"/>
            <a:ext cx="66405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tādu projektu, kura izstrādei ir piešķirts finansējums no Eiropas Struktūrfondu darbības programmas "Uzņēmējdarbība un inovācijas" papildinājuma 2.1.1.2. aktivitātes "Atbalsts starptautiskās sadarbības projektiem zinātnē un tehnoloģijās" resurs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EF9B352-C701-419A-A012-3706D0AB65A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Lai saņemtu atbal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23520" y="175212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s pretendents VIAA lietvedībā iesniedz iesniegumu (iesnieguma veidlapa pieejama internetā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strādātā projekta sadaļas, kurā ir norādīti projekta dalībnieki, kopij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drukas n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Research Participant Portal 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vietnes vai citu dokumentāciju, kas satur informāciju p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iesniegšanas laik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a pretendenta budžeta apjo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novērtēju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komersanta uzskaites  veidlapu par saņemt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de minimis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u (ja attiecinām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1C8842-EE81-47CD-84CE-12F6E9F1B35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B6092B-733D-4B28-97FE-2562AA82D7C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889280" y="606600"/>
            <a:ext cx="71467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ontakti un inform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06560" y="1752120"/>
            <a:ext cx="67802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lsts izglītības attīstības aģentū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ļņu iela 1, Rīga, LV-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Kontaktpersona – Lelde Val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E.pasts: lelde.valeine@viaa.gov.lv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Tel. 677854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nformācija par </a:t>
            </a:r>
            <a:r>
              <a:rPr b="0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2015 programmu un  iesnieguma veidlapa ir pieejama internetā www.viaa.gov.lv/lat/zinatnes_inovacijas_progr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2FBDB86-1730-4685-8E48-A5A878CC08A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04:19Z</dcterms:modified>
  <cp:revision>16</cp:revision>
  <dc:subject/>
  <dc:title>PowerPoint Presentation</dc:title>
</cp:coreProperties>
</file>